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325A-4862-4755-9535-D36B1BB0A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A36B-C7DA-4AED-A162-333980D9A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58D7-3E46-4BE1-8761-000936D7C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0091-33C8-4EB4-9916-8349F69D3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BD15-C66C-42F2-A3B1-6AEE29A9C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C0AB80-1B82-4DE5-BDC9-DA262CB3D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552AEC-B367-44B6-941F-110987060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49F01C-45A5-468F-94B6-654023B1A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8683D0-21F6-4E6F-8E66-78E1AEF5C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C51E11-BC2C-417A-AB19-CE752CBDD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DBDB-2EAD-4889-A3C9-658A23287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F60387-9828-4C96-958D-0422F363D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1F9C41-C9D3-4FBE-A033-892EFB93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790714-84A9-4E74-896A-23071A50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DDDA7A-F1FD-4661-B607-E4A5BD07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7F1A70-C677-47F0-B4CC-91877F424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5900CA-14D5-4527-87E8-18D735FF8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9C9149-5D80-40F9-A40B-DA6A0A59E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3652C8-6B71-4CCB-9A92-8E82B1A51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CCB77B-2916-4C94-887F-84640670F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CEE245-D63E-4799-B861-F5FF77017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48F2-9549-4236-AEA0-9D5ABCDCF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ABBE4C-BD88-4966-AD7A-12E32ACFE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700DA0-180A-4DE1-8DFB-236BB4005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05F60F-3F78-49CA-82B8-FA283114A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E0CDD2-2A31-465E-9241-7E24EBD8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0D8CD3-DD7F-4C22-BD36-A8C1CD28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A5DB3E-DC91-4613-8175-774D40AD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2C58C2-B59E-4FBA-A5C0-DF6611EAF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EF528B-C9CE-42E0-9268-B6943557E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469CC1-B770-46CC-B517-46ADD749E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F00A-EDB2-4694-B90A-155A8750B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761A-C311-4906-9E82-342991551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EF49-F772-45B3-A1A0-A6EF4F78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2286-9984-4F63-97AB-C8BD23B0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8384-7BD2-484E-86DF-3ACDB6C6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E2C47-5F84-4907-9B45-EB522D87BE69}" type="slidenum">
              <a:rPr b="0" lang="en-US" sz="8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6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7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8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9D1BB-2AC6-46A7-8994-D5266B8BA4F6}" type="slidenum">
              <a:rPr b="0" lang="en-US" sz="8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8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9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10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11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traight Connector 12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traight Connector 13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9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0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1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4FB14-7698-41E0-A272-F27D7D5963C2}" type="slidenum">
              <a:rPr b="0" lang="en-US" sz="8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2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3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4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5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-360" y="2157480"/>
            <a:ext cx="8915400" cy="8776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ction Research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March 12, 2012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914040" y="3034800"/>
            <a:ext cx="8001000" cy="382284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txBody>
          <a:bodyPr lIns="292680" rIns="274320" tIns="91440" bIns="9144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Century Gothic"/>
              </a:rPr>
              <a:t>Data Collection</a:t>
            </a:r>
            <a:endParaRPr b="0" lang="en-US" sz="3600" spc="-1" strike="noStrike">
              <a:solidFill>
                <a:srgbClr val="595959"/>
              </a:solidFill>
              <a:latin typeface="Century Gothic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uggestions for Surveys &amp; Questionnaire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Ensure that survey questions are aligned with research question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Pilot test the survey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Keep survey brief and to the point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Do not ask questions unrelated to your survey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Triangulatio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entury Gothic"/>
              </a:rPr>
              <a:t>Multiple forms of data are collected and analyzed</a:t>
            </a:r>
            <a:endParaRPr b="0" lang="en-US" sz="28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entury Gothic"/>
              </a:rPr>
              <a:t>Use at least three ways to look at phenomena to identify themes or characteristics of the situation</a:t>
            </a:r>
            <a:endParaRPr b="0" lang="en-US" sz="28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Ethic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Confidentiality: privacy is protected by ensuring confidentiality of information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Permissions: permission is obtained to carry out the research from people in positions of responsibility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Informed consent: participants are informed of the nature of the study and provide formal consent to be included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Qualities of Data Collectio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959"/>
                </a:solidFill>
                <a:latin typeface="Century Gothic"/>
              </a:rPr>
              <a:t>Generalizability – not necessary; goal is to improve school or classroom</a:t>
            </a:r>
            <a:endParaRPr b="0" lang="en-US" sz="33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959"/>
                </a:solidFill>
                <a:latin typeface="Century Gothic"/>
              </a:rPr>
              <a:t>Validity – the data measures or represents what it is meant to</a:t>
            </a:r>
            <a:endParaRPr b="0" lang="en-US" sz="33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95959"/>
                </a:solidFill>
                <a:latin typeface="Century Gothic"/>
              </a:rPr>
              <a:t>Reliability – accuracy of instruments for measurement</a:t>
            </a:r>
            <a:endParaRPr b="0" lang="en-US" sz="33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Questions to As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95959"/>
                </a:solidFill>
                <a:latin typeface="Century Gothic"/>
              </a:rPr>
              <a:t>Do the instruments and methods we plan to use measure what they claim they do?</a:t>
            </a:r>
            <a:endParaRPr b="0" lang="en-US" sz="30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95959"/>
                </a:solidFill>
                <a:latin typeface="Century Gothic"/>
              </a:rPr>
              <a:t>Do they measure the phenomena we are studying?</a:t>
            </a:r>
            <a:endParaRPr b="0" lang="en-US" sz="30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95959"/>
                </a:solidFill>
                <a:latin typeface="Century Gothic"/>
              </a:rPr>
              <a:t>Are we collecting enough data?</a:t>
            </a:r>
            <a:endParaRPr b="0" lang="en-US" sz="30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Establishing Validity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1114560" y="2285640"/>
            <a:ext cx="7610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Utilize peer to peer coaching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Engage in persistent and prolonged observations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Record data accurately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Member checks -- check in with respondents to discuss interpretation of data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Provide thick descriptions – describe setting, participants, interventions, and research methods in detail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Establishing Validity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95959"/>
                </a:solidFill>
                <a:latin typeface="Century Gothic"/>
              </a:rPr>
              <a:t>Do a negative case analysis – explore diversity of interpretations</a:t>
            </a:r>
            <a:endParaRPr b="0" lang="en-US" sz="3000" spc="-1" strike="noStrike">
              <a:solidFill>
                <a:srgbClr val="595959"/>
              </a:solidFill>
              <a:latin typeface="Century Gothic"/>
            </a:endParaRPr>
          </a:p>
          <a:p>
            <a:pPr marL="325800" indent="-3258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95959"/>
                </a:solidFill>
                <a:latin typeface="Century Gothic"/>
              </a:rPr>
              <a:t>Identify any researcher bias</a:t>
            </a:r>
            <a:endParaRPr b="0" lang="en-US" sz="3000" spc="-1" strike="noStrike">
              <a:solidFill>
                <a:srgbClr val="595959"/>
              </a:solidFill>
              <a:latin typeface="Century Gothic"/>
            </a:endParaRPr>
          </a:p>
          <a:p>
            <a:pPr marL="325800" indent="-3258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95959"/>
                </a:solidFill>
                <a:latin typeface="Century Gothic"/>
              </a:rPr>
              <a:t>Confirmability -- create an audit trail</a:t>
            </a:r>
            <a:endParaRPr b="0" lang="en-US" sz="3000" spc="-1" strike="noStrike">
              <a:solidFill>
                <a:srgbClr val="595959"/>
              </a:solidFill>
              <a:latin typeface="Century Gothic"/>
            </a:endParaRPr>
          </a:p>
          <a:p>
            <a:pPr marL="325800" indent="-3258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95959"/>
                </a:solidFill>
                <a:latin typeface="Century Gothic"/>
              </a:rPr>
              <a:t>Present results to key audiences</a:t>
            </a:r>
            <a:endParaRPr b="0" lang="en-US" sz="3000" spc="-1" strike="noStrike">
              <a:solidFill>
                <a:srgbClr val="595959"/>
              </a:solidFill>
              <a:latin typeface="Century Gothic"/>
            </a:endParaRPr>
          </a:p>
          <a:p>
            <a:pPr marL="325800" indent="-3258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95959"/>
                </a:solidFill>
                <a:latin typeface="Century Gothic"/>
              </a:rPr>
              <a:t>Engage in reflective planning</a:t>
            </a:r>
            <a:endParaRPr b="0" lang="en-US" sz="30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Quantitative Design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1114560" y="2595240"/>
            <a:ext cx="7610400" cy="39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Measures the extent to which how well something is done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Experimental: independent variable manipulated while other variables are controlled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Causal comparative: attempt to discover ther cause of issue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Correlational: examines 2 variables to see if a relationship exists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Survey: discover a group’s status with regard to certain variables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lvl="3" marL="1371600" indent="-336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Qualitative Design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1114560" y="2595600"/>
            <a:ext cx="7610400" cy="38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Describes the qualities of certain aspects of phenomenon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lvl="1" marL="685800" indent="-33660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Ethnographic: collection of data on may variables in a naturalistic setting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85800" indent="-33660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Naturalistic: observations in a natural setting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85800" indent="-33660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Participant observer: researcher becomes participant in the research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85800" indent="-33660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ase study: in depth investigation used to determine the relationship between variables and certain behaviors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85800" indent="-33660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ontent analysis: analysis of written or verbal content of documents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Methods of Data Collectio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1114560" y="2595240"/>
            <a:ext cx="7610400" cy="35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Artifact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Student generated: tests, written assignment, performances, portfolios, artwork, projects, journals, self-assessment, peer-review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Teacher generated: lesson plans, journals, self assessment, peer review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Archived: reports, school records, document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Methods of Data Collectio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Observational Data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Field notes, observation records, logs, narratives, checklists, tally sheets, videotapes, photographs, audiotapes, organizational maps/charts, behavioral scales, time on task analysi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Inquiry Data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Interviews, focus groups, conferencing, surveys, questionnaires, attitude scale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23:35:05Z</dcterms:created>
  <dc:creator>MFarrior</dc:creator>
  <dc:description/>
  <dc:language>en-US</dc:language>
  <cp:lastModifiedBy>Marian Farrior</cp:lastModifiedBy>
  <dcterms:modified xsi:type="dcterms:W3CDTF">2012-01-30T00:34:54Z</dcterms:modified>
  <cp:revision>17</cp:revision>
  <dc:subject/>
  <dc:title>Action Research  February 8, 2011</dc:title>
</cp:coreProperties>
</file>